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EA64-72DF-4A73-A5EC-39FBE961C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E03B-ABEE-42D2-B3BF-B0665F3F9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4641-B70D-4ED3-9DF7-AB8462630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821B-FD40-4FE9-9878-B44363185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1525-F98E-410C-84AE-63DE21A32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ADD7-7CCF-49A2-9808-864EE358D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0C96-31A8-49C8-BB1A-27FF6CFAD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A25B-B9E4-4B68-956E-CC6389451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26CD-946A-4ED2-9924-033F42258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632D-B9DF-4AC8-BDAF-8DE446890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2C94-86B7-4B56-9D06-DE4C0B8D1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0DA8-2188-4F98-A73B-0D71051E8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C51-9FF3-4D09-A9E9-316C42F552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25360"/>
          </a:xfrm>
          <a:custGeom>
            <a:avLst/>
            <a:gdLst>
              <a:gd name="textAreaLeft" fmla="*/ 132480 w 9144000"/>
              <a:gd name="textAreaRight" fmla="*/ 9011520 w 9144000"/>
              <a:gd name="textAreaTop" fmla="*/ 132480 h 1125360"/>
              <a:gd name="textAreaBottom" fmla="*/ 992880 h 1125360"/>
            </a:gdLst>
            <a:ahLst/>
            <a:rect l="textAreaLeft" t="textAreaTop" r="textAreaRight" b="textAreaBottom"/>
            <a:pathLst>
              <a:path w="1754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71859" y="21600"/>
                </a:lnTo>
                <a:arcTo wR="3600" hR="3600" stAng="10800000" swAng="5400000"/>
                <a:lnTo>
                  <a:pt x="17545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699920"/>
            <a:ext cx="7772760" cy="146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entagon Undergoes Major Change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Ja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World History 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December 4, 200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urrent Ev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o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resident Obam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Defense Secretary Robert Gat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entag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21844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greement was formed with the Iraqi government, and now Pentagon somewhat agrees with President Obama’s plan to bring out all U.S. troops out of Iraq by 2011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esident Obama decided to add more troops to Afghanistan, as he claims that the Bush administration forgot about the war there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The Pentagon has been working on the upcoming budget for the transition time.   President Obama presented his budget to Congress days after he was sworn in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e Pentagon says this month, the baseline budget would be $524 billion dollar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ere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U.S., the Pentag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fghanista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raq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en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Now (Current day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merica is now trying to better control its econom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merica is also trying to bring back the troops from Iraq, and control the situation in Afghanistan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ow do I feel about this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 feel as though the U.S. is in a tight space to maneuver, and that every decision the Pentagon and Congress make should count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lso I feel glad that the U.S. is starting to make changes, and that President Obama is acting just as he said during his campaign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"Analysis: A new president but old problems for Gates - CNN.com."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굴림"/>
              </a:rPr>
              <a:t>CNN.com International - Breaking, World, Business, Sports, Entertainment and Video News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 3 Dec. 2008 &lt;http://edition.cnn.com/2008/POLITICS/12/03/gates.analysis/index.html&gt;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39:47Z</dcterms:created>
  <dc:creator>이재군</dc:creator>
  <dc:description/>
  <dc:language>en-US</dc:language>
  <cp:lastModifiedBy>이재군</cp:lastModifiedBy>
  <dcterms:modified xsi:type="dcterms:W3CDTF">2008-12-03T14:44:10Z</dcterms:modified>
  <cp:revision>3</cp:revision>
  <dc:subject/>
  <dc:title>Pentagon Undergoes Major Changes</dc:title>
</cp:coreProperties>
</file>